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C1F-572C-4A2E-B915-2FA95413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AB8-827E-4B40-8083-52825C3B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1BE7D-705A-4E9C-B15D-64D0CF11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D9471-B01B-40E8-947A-BBCF751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756C2-FA89-4DC6-AC6C-E35FD65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E6BAE-A580-4AFA-8548-4AFDBFB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D9513-F674-4188-B2FE-C088C7F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05512-D917-4845-B88F-C36B0DF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9698A-4850-4B36-AFCD-02F1562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3701F-559B-44C5-877B-FB8769D7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90EF6-72D2-4300-A633-EEEBD1F1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FA361-485A-4555-9FDC-F3990928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49C-C2D6-48F0-B8C5-7108C716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C427-9AC5-4F1A-B72C-A3CEF5C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31229-2AF8-4A1C-BF3B-A9C579B5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1169-698D-4E7E-9D4C-77F586B7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48DA3-0F9B-40F8-A433-52131768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E6BA9-921E-4F19-8ABF-52276BD2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5475B-94F7-4BDA-B5CF-9129FB8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B82E7-63D4-492E-A38A-3EC7BC66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2462B-B126-43D8-98DE-34CC044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46AE4-CB53-407B-9DA4-3C6719B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2AA95-9291-4F5D-9DF2-3E2D801B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11E-B79C-45D1-8817-7664E15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A2117-A127-4927-BDB8-400E7490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564E4D-A65E-412A-9B9B-3B9E26D3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2AD0F8-CF95-4786-ABDF-9ED594F7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537BFF-41D6-4759-8E02-142AF8B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909F78-93B2-4A12-98C4-9540660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92FC59-F7CA-4A7B-9831-1D18103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4E6BAF-9D95-4F68-A02A-6C1DA75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405E3A-EFC2-429C-BD4F-045DDEE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672B52-FEAD-4F34-9C3A-34710AF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AFEAD-E43A-4ACF-8703-646DDE6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3E2F-0D9E-4DE2-BB40-6C9DFD76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70B2B9-259E-45DF-98A8-D2866DE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2EBD6C-CDEB-49A0-A86B-44EDB374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3ADE05-E991-4A34-A5E9-5E091123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B8999-4B37-45C4-B56E-45A8E9BA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F5173-4C24-4243-AE4C-AC5C99D8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66324-B393-4382-8358-34A82E54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DC4DF-E459-4091-9572-1DA3CF21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B9E26-E5F7-4855-92B8-1D9B8C86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6BE8-0647-4B5F-BE6E-78E9F982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87D74-736A-4C9D-9D4A-71B63C5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6C3C-3B50-411B-895B-8A038AFF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66F51-F93B-4501-B77C-8D4CECF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BA67C-18DD-47FA-B9A8-C184972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D8B2-F3CF-4773-8973-31790E9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165A0-0747-4571-8F23-E1B923D4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638CE-54AF-456C-BCB2-ABF02C8D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DDCBE-B5A9-4B17-B6CB-0660FC4D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B498E-65F1-4B68-8110-7AE60CE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F0BAB-5685-4186-8D41-46697829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279BC-8B0A-42D9-A7F2-733B1D4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8E1CD-EBC6-4F60-994E-8E48BD81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BA19-0472-4F91-A5EE-73F0799C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AD9AF-38AC-4048-9995-17343B9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A1716-8AE0-4960-AEA1-876A9BF8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249CA-23B1-46CC-BE78-8488566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24929-324D-425D-8989-5FA9A714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0591A-6E11-4D1B-A313-FF063ACE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7641A-AC75-4EFB-AF96-FA897B8D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C2FF1-A143-4B63-80B1-53CBB70F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CF425-4647-435C-B5D8-4F0F280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F98E2-EF39-4CE7-9253-2F35FEBD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DE7E2-F5FA-4C0E-A1E2-D37AB12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3430-17AA-4953-B241-B4277DB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6DC5B-44BE-432A-A51F-A4A49C62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9E2FC-92DB-4929-8193-1650D021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5B3B0-5691-4A4C-AB47-26584D32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E10FB-A13C-4CF5-A2BE-B43DF4F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D399B-F22C-46D6-9414-2A79C61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D5887-6A70-4B68-8AC9-4948FCB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80889-6F6D-4650-9C91-F01FE8A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C9ECA-55EF-4D0D-B772-141BA2E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6BAFF-95BB-4ABB-87F5-5A99CE86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BF9-57BB-4BCE-9B81-2EC59412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7C1B-B93D-4F3C-9058-32C58E29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F41-26DD-4DE6-90C9-4482DA98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EC4-E530-4A4C-AFD9-97EB2C7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F135-4271-4A89-B807-6F74692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A858-B187-4BA9-B724-F95E432A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B38-D331-4594-8BAB-DE804CF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FE4-54BE-47D4-9B37-1148AED7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1CE2-F799-4CFE-B13C-4F00D170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AA11D-8318-497B-85ED-E6A51071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F11E-5A7C-4E89-8E4A-FA70FC4D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DC0C-1214-4307-908F-D83EE03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77F0-03FB-4359-8860-1A41FBEC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7E8A-CD83-4213-AA8D-63B3990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831-75C1-4A4D-B6E1-A3E89C3A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E6C7-8492-4EBC-9CEA-08727C59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4659E-5C36-480F-BD1B-29349089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C60E-D86E-4A8A-A88A-49D74E2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5092B-C98C-4CAD-8D40-C9CA307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0732-69D0-47BE-90BB-88A224A7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06B7-DEFB-4A42-9E59-7D8736E1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86DF-AAA9-40CC-BD5F-CE679669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6515-178A-4322-AE8F-03981A4A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9AE4-6242-41DC-B3D6-2FEFB3C4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FEFB-2D2C-4BB0-9FC2-FD15D3B8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1CF-791D-4408-B0F1-C1763D2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2E3E-4C94-48D0-8A59-B630C72F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BD93-1E20-4E8A-97F0-C479224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AABE-AB09-4A74-9595-B760880A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7DF6-4A31-44F5-8D04-55C1C1A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F75A-1EF3-4302-8BC3-A0B7A94E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E659-8EE5-4A9E-8E43-2EE8F168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F53D-CBB4-46D3-8DD8-4B6C991E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45CB-3E79-4CB6-A356-C0937262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0181-D247-4E19-AEC1-108E64E3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698E-06A6-4851-A62D-AD039C27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FFA-71A3-4205-9126-74F5683D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3482-C2B9-4449-8EF9-6BFAA33B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2D64-AE66-49B7-9A4F-C29A79E7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6C648-622F-41B9-B0AF-25A35BE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5F13-0CC6-41EE-B5F9-E8601804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7F2F0-8B06-456A-A3B9-3A452AF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3306-0529-4FF3-B076-A9FDD43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92FC-0417-4541-9DDB-C7713D09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3EC7-6A3F-43D7-93ED-236256E2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B52B5-C01C-4547-9D0F-666EDFEE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AF09-1370-4D25-90ED-93A88786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22A-90CC-4A55-90C0-61B6D702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AABA-0455-4CC7-94F7-9F73F806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F41BA-79EF-4B88-A571-32529422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B3340-D9DE-4E54-B804-5C093A7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23B47-15A9-4AF9-9907-4B682A2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3B0A2-5F16-45FB-AB0F-B9FA8D0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5AB1D-B62E-4710-A3F1-26FA1F9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68AFC-3521-4ABD-BF05-2FDC3FB6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54858-0EA7-484D-A6ED-A79DC7A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F9BD5-4B83-49DF-BB1A-54AE23B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3F32A-6153-456F-8FD5-FDCC026E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DBD-35C7-4921-B60E-BDF6557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64EE9-73D1-40FF-B0B3-F6B7E2E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D831A-660E-46CD-AE26-D33C3D9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1E11B-628E-4521-9AEA-875ACAD3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485C-3B1F-4B1F-AE87-E303A74C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A98B-504A-4779-9F75-1F57F46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3B3C-C395-4044-94BA-3A85B4B2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6FB7-8673-4DE8-AA89-D24A355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9AD2-69CA-4633-9A02-31DCF93E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3C16-80D9-4F85-9690-D2A42006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0107-0562-43EE-8A79-96D6BBFB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7D7-D6E2-45BB-B8B3-3F31462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AD0FD-6B24-4C43-95CF-8EAEA40B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4167-4106-45F3-B84A-D7A6560F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3DD67-6830-4952-9BD2-115AABC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4F4BD-4FAE-47D2-8EFA-C6934691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B5D7-07B3-4789-9B7B-16960DFD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A4995-8831-468F-95B4-B856244C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8ED4-6B04-4604-AECE-D5BC040F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1EC97-DC4E-4883-B4B1-E191A658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43BD4-58A4-4237-BF03-77BD9E03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AC79-6986-494B-B568-160FD6C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021-4195-4D75-BE73-B34BCDBF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130C-726E-4739-83DC-7389049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0537-EA85-4275-8556-69D35705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AAF1-354A-41D4-BE71-77BB953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44C82-404F-4F3E-8E4E-9890524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6C7B-B9E2-4653-8D64-78E6FF6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90AD-1E2E-459C-88DB-86A167FB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51294-BA9A-4473-940D-5D8C9A69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62B4-473D-4DFE-A746-8D6455BB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BA95F-00B6-43A8-B0AD-8AB1CE8E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F3A5-7E0A-4143-A369-1CA1D30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3813-E26E-4F1C-9051-31586B6101A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9B85-2E8C-4B0D-8B7A-217D7BF48C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7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71D-88BC-4B2C-BD74-6F959CB4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3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E4BD-CE47-4C48-B212-87E702A9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B1C6-257C-49E7-841C-38FEEF64D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5A30-6ECB-4168-8933-06E44C4ED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4BC-95B0-4F65-8399-94FD58E6B5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86A-D3C3-4BE4-868C-6DDD254D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3A2F-8E84-43FC-AEF7-E0EC11395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5A1-E8BA-4283-9A06-C50E32C3A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F9CC-B15C-40E8-9D67-9DF4A8A3A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7162-DB6F-46DA-83C7-0C8D2141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A4E4-29C5-46DF-A635-A81BDD033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AC6-53C0-411E-A758-23F5D9CA20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Fabulos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29528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Jack Flaher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51818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Pisci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200400" y="5867280"/>
            <a:ext cx="266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 rot="20785800">
            <a:off x="3580920" y="1600200"/>
            <a:ext cx="2724120" cy="1676520"/>
          </a:xfrm>
          <a:prstGeom prst="rect">
            <a:avLst/>
          </a:prstGeom>
          <a:ln w="0">
            <a:noFill/>
          </a:ln>
        </p:spPr>
      </p:pic>
      <p:pic>
        <p:nvPicPr>
          <p:cNvPr id="1402" name="" descr=""/>
          <p:cNvPicPr/>
          <p:nvPr/>
        </p:nvPicPr>
        <p:blipFill>
          <a:blip r:embed="rId2"/>
          <a:stretch/>
        </p:blipFill>
        <p:spPr>
          <a:xfrm rot="295200">
            <a:off x="5334120" y="34290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3"/>
          <a:stretch/>
        </p:blipFill>
        <p:spPr>
          <a:xfrm rot="21023400">
            <a:off x="1143000" y="29714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Es Una Cocin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Co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1638360" y="12286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 Un Comedo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me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2133720" y="1606680"/>
            <a:ext cx="5257800" cy="3811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Sa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533520" y="1028880"/>
            <a:ext cx="8458200" cy="50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s Un ban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4792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b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3810240" cy="253512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4876920" y="2765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76360" y="60955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1"/>
          <a:stretch/>
        </p:blipFill>
        <p:spPr>
          <a:xfrm>
            <a:off x="1219320" y="1106640"/>
            <a:ext cx="73911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 Un Pati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3047760" y="586692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P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899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2895480" y="5333760"/>
            <a:ext cx="28958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2"/>
          <a:stretch/>
        </p:blipFill>
        <p:spPr>
          <a:xfrm>
            <a:off x="1905120" y="1469880"/>
            <a:ext cx="5257800" cy="397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2590560" y="5943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ar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1143000" y="1155600"/>
            <a:ext cx="6629400" cy="43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7:01Z</dcterms:created>
  <dc:creator>flahertyjoh</dc:creator>
  <dc:description/>
  <dc:language>en-US</dc:language>
  <cp:lastModifiedBy>flahertyjoh</cp:lastModifiedBy>
  <dcterms:modified xsi:type="dcterms:W3CDTF">2012-10-25T17:29:26Z</dcterms:modified>
  <cp:revision>4</cp:revision>
  <dc:subject/>
  <dc:title>Mi Fabulosa Mansion</dc:title>
</cp:coreProperties>
</file>